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EBC-2862-4C51-A0C3-C6783848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B49-EB1D-497E-8027-FB8FD8D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1F9-095E-428F-9CD0-921A1A8D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596-A8CF-41D6-80CE-ED82D0C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719-6D27-4879-8B97-031E4DFE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4B3-4F11-4DB2-AC9C-4774B9BD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BE0-6104-4B33-B887-F5FF1BF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D0A-F888-48D5-8B3F-386B5FCC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1A6-AD3D-4C47-8C47-67492D2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5BE-D886-4E1F-AB0C-92F291F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0F7-3B47-47D7-B73E-A807107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FB1-04C0-4AF0-B252-B72017F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21D-3EBC-4F3D-8918-AA0861E2C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gabuga.ru/files/monsters/drev_mif/nestor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2009/09/30-077a5ba34d3c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107/knyaz_igor_in_945_by_lebedev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uren.nagonfa.ru/drevnyaya-rus-vostochnye-slavyane-v-drevnosti.html" TargetMode="External"/><Relationship Id="rId3" Type="http://schemas.openxmlformats.org/officeDocument/2006/relationships/hyperlink" Target="http://lauren.nagonfa.ru/drevnyaya-rus-vostochnye-slavyane-v-drevnosti.html" TargetMode="External"/><Relationship Id="rId4" Type="http://schemas.openxmlformats.org/officeDocument/2006/relationships/hyperlink" Target="http://lauren.nagonfa.ru/drevnyaya-rus-vostochnye-slavyane-v-drevnosti.html" TargetMode="External"/><Relationship Id="rId5" Type="http://schemas.openxmlformats.org/officeDocument/2006/relationships/hyperlink" Target="http://lauren.nagonfa.ru/drevnyaya-rus-vostochnye-slavyane-v-drevnosti.html" TargetMode="External"/><Relationship Id="rId6" Type="http://schemas.openxmlformats.org/officeDocument/2006/relationships/hyperlink" Target="http://lauren.nagonfa.ru/drevnyaya-rus-vostochnye-slavyane-v-drevnosti.html" TargetMode="External"/><Relationship Id="rId7" Type="http://schemas.openxmlformats.org/officeDocument/2006/relationships/hyperlink" Target="http://nasharussia.g-talk.ru/viewtopic.php?f=20&amp;t=9&amp;sid=f96d735bd3d28ab12cbe7de6e607ea3c" TargetMode="External"/><Relationship Id="rId8" Type="http://schemas.openxmlformats.org/officeDocument/2006/relationships/hyperlink" Target="http://nasharussia.g-talk.ru/viewtopic.php?f=20&amp;t=9&amp;sid=f96d735bd3d28ab12cbe7de6e607ea3c" TargetMode="External"/><Relationship Id="rId9" Type="http://schemas.openxmlformats.org/officeDocument/2006/relationships/hyperlink" Target="http://nasharussia.g-talk.ru/viewtopic.php?f=20&amp;t=9&amp;sid=f96d735bd3d28ab12cbe7de6e607ea3c" TargetMode="External"/><Relationship Id="rId10" Type="http://schemas.openxmlformats.org/officeDocument/2006/relationships/hyperlink" Target="http://nasharussia.g-talk.ru/viewtopic.php?f=20&amp;t=9&amp;sid=f96d735bd3d28ab12cbe7de6e607ea3c" TargetMode="External"/><Relationship Id="rId11" Type="http://schemas.openxmlformats.org/officeDocument/2006/relationships/hyperlink" Target="http://alternative-view.info/tags/%D0%F3%F1%FC/" TargetMode="External"/><Relationship Id="rId12" Type="http://schemas.openxmlformats.org/officeDocument/2006/relationships/hyperlink" Target="http://alternative-view.info/tags/%D0%F3%F1%FC/" TargetMode="External"/><Relationship Id="rId13" Type="http://schemas.openxmlformats.org/officeDocument/2006/relationships/hyperlink" Target="http://alternative-view.info/tags/%D0%F3%F1%FC/" TargetMode="External"/><Relationship Id="rId14" Type="http://schemas.openxmlformats.org/officeDocument/2006/relationships/hyperlink" Target="http://alternative-view.info/tags/%D0%F3%F1%FC/" TargetMode="External"/><Relationship Id="rId15" Type="http://schemas.openxmlformats.org/officeDocument/2006/relationships/hyperlink" Target="http://alternative-view.info/tags/%D0%F3%F1%FC/" TargetMode="External"/><Relationship Id="rId16" Type="http://schemas.openxmlformats.org/officeDocument/2006/relationships/hyperlink" Target="http://alternative-view.info/tags/%D0%F3%F1%FC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6665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Формирование Древнерусского          государст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01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России 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древняя русь. восточные славяне в древности"/>
          <p:cNvPicPr/>
          <p:nvPr/>
        </p:nvPicPr>
        <p:blipFill>
          <a:blip r:embed="rId2"/>
          <a:stretch/>
        </p:blipFill>
        <p:spPr>
          <a:xfrm>
            <a:off x="304920" y="1219320"/>
            <a:ext cx="2361960" cy="167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Возращение из похода В"/>
          <p:cNvPicPr/>
          <p:nvPr/>
        </p:nvPicPr>
        <p:blipFill>
          <a:blip r:embed="rId3"/>
          <a:stretch/>
        </p:blipFill>
        <p:spPr>
          <a:xfrm>
            <a:off x="6400800" y="1219320"/>
            <a:ext cx="251460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" y="50673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29400" y="4932360"/>
            <a:ext cx="23623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667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ом, как появилась княжеская власть у восточных славян, рассказывает                       « Повесть временных лет». Но до сих пор историки спорят о происхождении первых русских князей и слова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17220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тор-летопи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Картинка 3 из 454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5238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ие историки считают, что первые князья – норманны, выходцы из Скандинавии.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 – 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они стали совершать торговые и завоевательные походы, подчиняя слав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2 из 190">
            <a:hlinkClick r:id="rId2"/>
          </p:cNvPr>
          <p:cNvPicPr/>
          <p:nvPr/>
        </p:nvPicPr>
        <p:blipFill>
          <a:blip r:embed="rId3"/>
          <a:srcRect l="10546" t="0" r="6328" b="0"/>
          <a:stretch/>
        </p:blipFill>
        <p:spPr>
          <a:xfrm>
            <a:off x="250920" y="1828800"/>
            <a:ext cx="432108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вание варя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ые племена стали приглашать к себе за небольшую плату вооружённые отряды русов во главе с военачальниками – князьями. Наёмных воинов стали называть варягами. Они были хорошими мореплавателями и имели богатый во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Русь в ожидании варягов"/>
          <p:cNvPicPr/>
          <p:nvPr/>
        </p:nvPicPr>
        <p:blipFill>
          <a:blip r:embed="rId2"/>
          <a:stretch/>
        </p:blipFill>
        <p:spPr>
          <a:xfrm>
            <a:off x="228600" y="1523880"/>
            <a:ext cx="4572000" cy="456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вание варя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время войн они возглавляли народные ополчения славян, передавая им премудрости военного искусства. Впоследствии варяжские князья стали выполнять и другие пор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800600" cy="339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5410080"/>
            <a:ext cx="4343400" cy="6098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ря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16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Земля наша велика и обильна, а наряда                          ( управления) в ней нет. Да пойдите княжить и володети н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иглашение откликнулся князь Рюрик. Он обосновался со своей дружиной в городе Ладоне. Так появилось первой крупное объединение с центром в Нов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889280"/>
            <a:ext cx="4800600" cy="334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181480"/>
            <a:ext cx="4648320" cy="6098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й тре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отряды русов появились и на юге. Знатные воины Аскольд и Дир основали город на трёх холмах. Это был центр полян –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Аскольд и Дир"/>
          <p:cNvPicPr/>
          <p:nvPr/>
        </p:nvPicPr>
        <p:blipFill>
          <a:blip r:embed="rId2"/>
          <a:stretch/>
        </p:blipFill>
        <p:spPr>
          <a:xfrm>
            <a:off x="304920" y="1523880"/>
            <a:ext cx="421164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кольд и 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сложились 2 крупных восточно-славянских объединения, в которых правили князья. Одно на севере – Новгород, другое на юге –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sunapse.ru/rushistory/Books/box_files/Map/11_map_max.jpg"/>
          <p:cNvPicPr/>
          <p:nvPr/>
        </p:nvPicPr>
        <p:blipFill>
          <a:blip r:embed="rId2"/>
          <a:stretch/>
        </p:blipFill>
        <p:spPr>
          <a:xfrm>
            <a:off x="228600" y="1447920"/>
            <a:ext cx="432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879 г. в Новгороде умер Рюрик и новым князем становится его  родственник Олег. В 882 году он собрал большое войско и двинулся в поход на юг. По пути он подчинил себе кривич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82744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5943600"/>
            <a:ext cx="3200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язь Олег и Иг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ойдя к Киеву, он хитростью выманил из города Аскольда и Дира и убил их. Киев Олег объявил « матерью всех городов русских», столицей своих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240" y="1600200"/>
            <a:ext cx="4263840" cy="496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ийство Аскольда и Д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03560" y="13644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1120" y="1295280"/>
            <a:ext cx="4495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При Оле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изошло севера и ю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ение древл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рение хаз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ршил поход в Царь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24144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 Его 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"/>
            <a:ext cx="8610480" cy="9144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Картинка 4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418140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0600" y="1523880"/>
            <a:ext cx="37339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Кн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209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5146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Дружи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5146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оев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4495680" cy="24382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племена, признава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 киевского княз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лючали с ним догов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тором обязыв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лачивать д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4038480" cy="60984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юдье – сбор дани кня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1"/>
          <p:cNvPicPr/>
          <p:nvPr/>
        </p:nvPicPr>
        <p:blipFill>
          <a:blip r:embed="rId2"/>
          <a:stretch/>
        </p:blipFill>
        <p:spPr>
          <a:xfrm>
            <a:off x="611280" y="130320"/>
            <a:ext cx="8012160" cy="410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"/>
          <p:cNvPicPr/>
          <p:nvPr/>
        </p:nvPicPr>
        <p:blipFill>
          <a:blip r:embed="rId3"/>
          <a:stretch/>
        </p:blipFill>
        <p:spPr>
          <a:xfrm>
            <a:off x="257040" y="3902040"/>
            <a:ext cx="3306960" cy="2712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1"/>
          <p:cNvPicPr/>
          <p:nvPr/>
        </p:nvPicPr>
        <p:blipFill>
          <a:blip r:embed="rId4"/>
          <a:stretch/>
        </p:blipFill>
        <p:spPr>
          <a:xfrm>
            <a:off x="2646360" y="152280"/>
            <a:ext cx="3851280" cy="381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1"/>
          <p:cNvPicPr/>
          <p:nvPr/>
        </p:nvPicPr>
        <p:blipFill>
          <a:blip r:embed="rId5"/>
          <a:stretch/>
        </p:blipFill>
        <p:spPr>
          <a:xfrm>
            <a:off x="3503520" y="3922560"/>
            <a:ext cx="2514600" cy="278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"/>
          <p:cNvPicPr/>
          <p:nvPr/>
        </p:nvPicPr>
        <p:blipFill>
          <a:blip r:embed="rId6"/>
          <a:stretch/>
        </p:blipFill>
        <p:spPr>
          <a:xfrm>
            <a:off x="6564240" y="3246480"/>
            <a:ext cx="241452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просы на стр. 3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раграф 3, записи, термины, рабочая те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uren.nagonf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revnyaya-rus-vostochnye-slavyane-v-drevnosti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nasharussia.g-talk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viewtopic.php?f=20&amp;t=9&amp;sid=f96d735bd3d28ab12cbe7de6e607ea3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lternative-view.inf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ag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%D0%F3%F1%FC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4876920"/>
            <a:ext cx="7162920" cy="1600200"/>
          </a:xfrm>
          <a:custGeom>
            <a:avLst/>
            <a:gdLst>
              <a:gd name="textAreaLeft" fmla="*/ 188280 w 7162920"/>
              <a:gd name="textAreaRight" fmla="*/ 6974640 w 71629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96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3070" y="21600"/>
                </a:lnTo>
                <a:arcTo wR="3600" hR="3600" stAng="10800000" swAng="5400000"/>
                <a:lnTo>
                  <a:pt x="9667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1371600"/>
            <a:ext cx="8761680" cy="5257440"/>
            <a:chOff x="152280" y="1371600"/>
            <a:chExt cx="8761680" cy="5257440"/>
          </a:xfrm>
        </p:grpSpPr>
        <p:cxnSp>
          <p:nvCxnSpPr>
            <p:cNvPr id="55" name="_s6162"/>
            <p:cNvCxnSpPr>
              <a:stCxn id="56" idx="3"/>
              <a:endCxn id="57" idx="2"/>
            </p:cNvCxnSpPr>
            <p:nvPr/>
          </p:nvCxnSpPr>
          <p:spPr>
            <a:xfrm flipV="1">
              <a:off x="5409000" y="1989360"/>
              <a:ext cx="876600" cy="433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63"/>
            <p:cNvCxnSpPr>
              <a:stCxn id="59" idx="0"/>
              <a:endCxn id="60" idx="2"/>
            </p:cNvCxnSpPr>
            <p:nvPr/>
          </p:nvCxnSpPr>
          <p:spPr>
            <a:xfrm flipV="1">
              <a:off x="2780280" y="2917080"/>
              <a:ext cx="612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4"/>
            <p:cNvCxnSpPr>
              <a:stCxn id="62" idx="3"/>
              <a:endCxn id="57" idx="2"/>
            </p:cNvCxnSpPr>
            <p:nvPr/>
          </p:nvCxnSpPr>
          <p:spPr>
            <a:xfrm flipV="1">
              <a:off x="5409000" y="1989720"/>
              <a:ext cx="876600" cy="340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65"/>
            <p:cNvCxnSpPr>
              <a:stCxn id="64" idx="3"/>
              <a:endCxn id="57" idx="2"/>
            </p:cNvCxnSpPr>
            <p:nvPr/>
          </p:nvCxnSpPr>
          <p:spPr>
            <a:xfrm flipV="1">
              <a:off x="5409000" y="1989720"/>
              <a:ext cx="876600" cy="24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66"/>
            <p:cNvCxnSpPr>
              <a:stCxn id="60" idx="3"/>
              <a:endCxn id="57" idx="2"/>
            </p:cNvCxnSpPr>
            <p:nvPr/>
          </p:nvCxnSpPr>
          <p:spPr>
            <a:xfrm flipV="1">
              <a:off x="5409000" y="1989720"/>
              <a:ext cx="876600" cy="61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6167"/>
            <p:cNvSpPr/>
            <p:nvPr/>
          </p:nvSpPr>
          <p:spPr>
            <a:xfrm>
              <a:off x="3656880" y="1371600"/>
              <a:ext cx="5257080" cy="61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3edf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Признаки госуда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8"/>
            <p:cNvSpPr/>
            <p:nvPr/>
          </p:nvSpPr>
          <p:spPr>
            <a:xfrm>
              <a:off x="152280" y="229932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Территор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69"/>
            <p:cNvSpPr/>
            <p:nvPr/>
          </p:nvSpPr>
          <p:spPr>
            <a:xfrm>
              <a:off x="152280" y="415476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равител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70"/>
            <p:cNvSpPr/>
            <p:nvPr/>
          </p:nvSpPr>
          <p:spPr>
            <a:xfrm>
              <a:off x="152280" y="508284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Закон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71"/>
            <p:cNvSpPr/>
            <p:nvPr/>
          </p:nvSpPr>
          <p:spPr>
            <a:xfrm>
              <a:off x="152280" y="322704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асе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6172"/>
            <p:cNvSpPr/>
            <p:nvPr/>
          </p:nvSpPr>
          <p:spPr>
            <a:xfrm>
              <a:off x="152280" y="601056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ал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971800"/>
            <a:ext cx="3048120" cy="2438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523880"/>
            <a:ext cx="380880" cy="5105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3716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ложение родоплем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56272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яя у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290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 городов как пл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4419720"/>
            <a:ext cx="51055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ение неравенства и з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36232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торговли и реме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796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в жизни восточных славян всё большее значение начинает приобретать торговля. По Неве, Ладожскому озеру, Ловати, Днепру шёл торговый путь « из варяг в греки», соединявший Балтийское и Чёрное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Возращение из похода В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6248520"/>
            <a:ext cx="4724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рговля в Виз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480" y="54097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дей, занимающихся торгом, называли куп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древняя русь. восточные славяне в древности"/>
          <p:cNvPicPr/>
          <p:nvPr/>
        </p:nvPicPr>
        <p:blipFill>
          <a:blip r:embed="rId2"/>
          <a:stretch/>
        </p:blipFill>
        <p:spPr>
          <a:xfrm>
            <a:off x="1790640" y="1461960"/>
            <a:ext cx="5562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нятие торговли было прибыльным, но очень опасным и сложным, потому что на купеческие караваны нападали печенеги, обосновавшиеся в просторах Причерномо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703680" cy="52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095880"/>
            <a:ext cx="3809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ченежский в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витием торговли в центральных племенных посёлках, ведущих к Чёрному и Балтийскому морям, стали складываться специальные пункты, куда люди стали свозить свой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496040" cy="32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5257800"/>
            <a:ext cx="4419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вгородский то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1:33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