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11E-DFC2-43EC-86FC-AFBF73FD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899-42DB-43ED-A8A4-313B8231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DCE-2ECE-4E05-B501-D86A0444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0D0-DA4E-477A-82AE-50664B52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A3A-4EE0-4169-B766-D4D328F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491-21A1-4977-9A3C-874F971E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DE7-2E92-406E-90F8-960018EF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157-95CC-4722-A697-C17F2BE6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0BC-4807-4F49-AD16-6B749699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A58-BD91-4888-A346-5FC0BA26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262-D191-4D20-88CD-2C43AA01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186-1809-4462-9FE7-2841FD13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D1F1-D02E-4070-A6A4-7EF706140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304920"/>
            <a:ext cx="784872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"/>
              </a:rPr>
              <a:t>Тема уро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6248520" cy="27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 Рим при императо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ерон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Файл:Nero pushkin.jpg"/>
          <p:cNvPicPr/>
          <p:nvPr/>
        </p:nvPicPr>
        <p:blipFill>
          <a:blip r:embed="rId2"/>
          <a:stretch/>
        </p:blipFill>
        <p:spPr>
          <a:xfrm>
            <a:off x="685800" y="4267080"/>
            <a:ext cx="1776240" cy="216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Файл:Neroandseneca.jpg"/>
          <p:cNvPicPr/>
          <p:nvPr/>
        </p:nvPicPr>
        <p:blipFill>
          <a:blip r:embed="rId3"/>
          <a:stretch/>
        </p:blipFill>
        <p:spPr>
          <a:xfrm>
            <a:off x="6553080" y="3049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Файл:Karl von Piloty Nero Róma égését szemléli.jpg"/>
          <p:cNvPicPr/>
          <p:nvPr/>
        </p:nvPicPr>
        <p:blipFill>
          <a:blip r:embed="rId4"/>
          <a:stretch/>
        </p:blipFill>
        <p:spPr>
          <a:xfrm>
            <a:off x="5791320" y="4267080"/>
            <a:ext cx="2981160" cy="2219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Файл:Vasiliy smirnov 001.jpg"/>
          <p:cNvPicPr/>
          <p:nvPr/>
        </p:nvPicPr>
        <p:blipFill>
          <a:blip r:embed="rId5"/>
          <a:stretch/>
        </p:blipFill>
        <p:spPr>
          <a:xfrm>
            <a:off x="380880" y="1143000"/>
            <a:ext cx="31244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513000" y="2077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знь сотен раб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419720" y="14475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жестокости Нерона страдали все. Однажды богатый римлянин был убит своим рабом. Согласно закону, наказать должны были только виновного. Но Нерон приказал казнить всех рабов, находившихся в доме (400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4035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рон переживает убийство мате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жар в Ри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219640" cy="3259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"/>
          <p:cNvSpPr/>
          <p:nvPr/>
        </p:nvSpPr>
        <p:spPr>
          <a:xfrm>
            <a:off x="152280" y="4648320"/>
            <a:ext cx="8991720" cy="2057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Нероне страшное бедствие постигло Ри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пыхнул пожар, охвативший большую ча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рода. Бороться с огнём было бесполез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од обвинил Нерона в поджо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Файл:Karl von Piloty Nero Róma égését szemléli.jpg"/>
          <p:cNvPicPr/>
          <p:nvPr/>
        </p:nvPicPr>
        <p:blipFill>
          <a:blip r:embed="rId2"/>
          <a:stretch/>
        </p:blipFill>
        <p:spPr>
          <a:xfrm>
            <a:off x="285840" y="1447920"/>
            <a:ext cx="4286160" cy="3190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жар в Ри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6"/>
          <p:cNvSpPr/>
          <p:nvPr/>
        </p:nvSpPr>
        <p:spPr>
          <a:xfrm>
            <a:off x="304920" y="4267080"/>
            <a:ext cx="8839080" cy="2438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казывали, что Нерон стоял на  высо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шне при дворце и, вдохновляясь ви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лающего города писал сти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Файл:Vasiliy smirnov 001.jpg"/>
          <p:cNvPicPr/>
          <p:nvPr/>
        </p:nvPicPr>
        <p:blipFill>
          <a:blip r:embed="rId2"/>
          <a:stretch/>
        </p:blipFill>
        <p:spPr>
          <a:xfrm>
            <a:off x="343080" y="1752480"/>
            <a:ext cx="864864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бель Нер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рон и Сен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. 254 – в синей рам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Файл:Neroandseneca.jpg"/>
          <p:cNvPicPr/>
          <p:nvPr/>
        </p:nvPicPr>
        <p:blipFill>
          <a:blip r:embed="rId2"/>
          <a:stretch/>
        </p:blipFill>
        <p:spPr>
          <a:xfrm>
            <a:off x="304920" y="19144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на стр. 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ведение итога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граф 55, вопросы, творческое задание: « Рассказ от лица человека, присутствующего на выступлении Неро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609480" y="426960"/>
            <a:ext cx="82296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"/>
          <p:cNvSpPr/>
          <p:nvPr/>
        </p:nvSpPr>
        <p:spPr>
          <a:xfrm>
            <a:off x="495360" y="4267080"/>
            <a:ext cx="8153280" cy="2057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ьский район 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накомимся с личностью императора Нерон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ясним, каким он был императором и как к нему относился нар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иваем умение работать с учебником и правильно излагать свои мысл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533520" y="228600"/>
            <a:ext cx="8153280" cy="1066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ператоры объявляют себя бог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ёр на императорском тро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знь сотен раб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жар в Ри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3"/>
          <p:cNvSpPr/>
          <p:nvPr/>
        </p:nvSpPr>
        <p:spPr>
          <a:xfrm>
            <a:off x="533520" y="228600"/>
            <a:ext cx="8153280" cy="1066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687680" y="1500120"/>
            <a:ext cx="3441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762120" y="2057400"/>
            <a:ext cx="8001000" cy="38098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вы считаете, почему у в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азался такой страш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к как Нер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вшие после Августа императоры всеми способами укрепляли свою власть. Перестали созывать народное собрание, народ должен был поклоняться им подобно бог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ператоры объявляю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бя бог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ой зловещей фигурой среди императоров 1 в. н.э. был император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Нерон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Файл:Nero pushkin.jpg"/>
          <p:cNvPicPr/>
          <p:nvPr/>
        </p:nvPicPr>
        <p:blipFill>
          <a:blip r:embed="rId2"/>
          <a:stretch/>
        </p:blipFill>
        <p:spPr>
          <a:xfrm>
            <a:off x="457200" y="1523880"/>
            <a:ext cx="3840120" cy="468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04920" y="5715000"/>
            <a:ext cx="4038480" cy="838080"/>
          </a:xfrm>
          <a:prstGeom prst="rect">
            <a:avLst/>
          </a:prstGeom>
          <a:solidFill>
            <a:srgbClr val="eba33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ст Нерона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шкинском муз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ператоры объявляю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бя бог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вшие после Августа императоры всеми способами укрепляли свою власть. Перестали созывать народное собрание, народ должен был поклоняться им подобно бог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ператоры объявляю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бя бог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ёр на императорском тро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44780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/>
          <p:cNvSpPr/>
          <p:nvPr/>
        </p:nvSpPr>
        <p:spPr>
          <a:xfrm>
            <a:off x="304920" y="4876920"/>
            <a:ext cx="8839080" cy="1828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он считал себя великим актёром и поэтом. Он ч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атре свои стихи,  выступал в ролях геро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еческих трагедий. Римляне обязаны были посещ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высту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2280" y="4876920"/>
            <a:ext cx="8991720" cy="1752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ление императора на театральной сцене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ь необычным, что часть приводила к забав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шествиям. Однажды, играя Геракла, котор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вали в цепь, новобранцы бросились его защищ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152280" y="4876920"/>
            <a:ext cx="8991720" cy="1828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атре во время выступления Нерона наход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торианцы и десятки доносчиков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или за поведением зрителей и отмечали те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не одобрял актёра – импер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0" y="4572000"/>
            <a:ext cx="9144000" cy="2133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, кто негативно отзывался об игре Нерона ждала казн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ненависть императора настигала и знат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жды крупный военачальник уснул на представле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казание он был сослан в дальний городок, где прожил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ёр на императорском тро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по ночам Нерон вместе со своими дружками выступал в роли главаря банды, но уже на улицах города, избивая и грабя прохожих. Эти нападения были ещё одним способом устрашения недовольных Неро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9625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25T18:59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