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F11-EE4A-4E2C-8401-202DD0A6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7E5-BBC9-44F8-A7C1-E19BC7C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E5D-9B29-47DC-A9EB-AE91B2D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0AC-F80F-447D-89C7-8D3D5B03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6C3-313E-44BE-93D2-AE33448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451-9902-43CF-A6AE-456AD0D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030-404E-4D94-8F71-A5F3BD57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EA8-6DBF-4DD2-8003-C7C5DD5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736-7A9D-4346-847D-39AC6D5C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B7A-568B-49C4-85FE-98B47EC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E6F-2A91-443F-AE7E-A9DE6CE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272-6E53-4163-B1AC-AE9AF8D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0B12-C413-4EAC-AAFB-B365EADAA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 апр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2065320"/>
            <a:ext cx="678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«Восстание Спарта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6480" y="9360"/>
            <a:ext cx="9137520" cy="6843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вержение Везувия 79 г. до н.э. ( реконструк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Файл:Pompeii the last day 1.jpg"/>
          <p:cNvPicPr/>
          <p:nvPr/>
        </p:nvPicPr>
        <p:blipFill>
          <a:blip r:embed="rId2"/>
          <a:stretch/>
        </p:blipFill>
        <p:spPr>
          <a:xfrm>
            <a:off x="685800" y="1447920"/>
            <a:ext cx="7696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419720" y="380520"/>
            <a:ext cx="4114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Лучше пойти на крайний риск ради свободы, чем рисковать своей жизнью на арене ради потехи зр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пар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spartak.gif"/>
          <p:cNvPicPr/>
          <p:nvPr/>
        </p:nvPicPr>
        <p:blipFill>
          <a:blip r:embed="rId2"/>
          <a:stretch/>
        </p:blipFill>
        <p:spPr>
          <a:xfrm>
            <a:off x="533520" y="6094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Рисунок7"/>
          <p:cNvPicPr/>
          <p:nvPr/>
        </p:nvPicPr>
        <p:blipFill>
          <a:blip r:embed="rId2"/>
          <a:stretch/>
        </p:blipFill>
        <p:spPr>
          <a:xfrm>
            <a:off x="76212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457200" y="304920"/>
            <a:ext cx="8229600" cy="990360"/>
          </a:xfrm>
          <a:prstGeom prst="rect">
            <a:avLst/>
          </a:prstGeom>
          <a:solidFill>
            <a:srgbClr val="32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гство с горы Везу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677880" y="4572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оходы восставши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62120" y="2065320"/>
            <a:ext cx="67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стр. 236- 2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арк Лици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р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Марк Лициний Красс"/>
          <p:cNvPicPr/>
          <p:nvPr/>
        </p:nvPicPr>
        <p:blipFill>
          <a:blip r:embed="rId2"/>
          <a:stretch/>
        </p:blipFill>
        <p:spPr>
          <a:xfrm>
            <a:off x="762120" y="1600200"/>
            <a:ext cx="290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едняя би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Луций Лициний Лукулл"/>
          <p:cNvPicPr/>
          <p:nvPr/>
        </p:nvPicPr>
        <p:blipFill>
          <a:blip r:embed="rId2"/>
          <a:stretch/>
        </p:blipFill>
        <p:spPr>
          <a:xfrm>
            <a:off x="1143000" y="1647720"/>
            <a:ext cx="2719440" cy="406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609480" y="5638680"/>
            <a:ext cx="358164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ций Лициний Луку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Файл:Pompey1.jpg"/>
          <p:cNvPicPr/>
          <p:nvPr/>
        </p:nvPicPr>
        <p:blipFill>
          <a:blip r:embed="rId3"/>
          <a:stretch/>
        </p:blipFill>
        <p:spPr>
          <a:xfrm>
            <a:off x="5029200" y="1523880"/>
            <a:ext cx="3314880" cy="4324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4800600" y="5867280"/>
            <a:ext cx="358128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ней Пом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677880" y="4572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Расправа с восставшим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8"/>
          <p:cNvPicPr/>
          <p:nvPr/>
        </p:nvPicPr>
        <p:blipFill>
          <a:blip r:embed="rId2"/>
          <a:stretch/>
        </p:blipFill>
        <p:spPr>
          <a:xfrm>
            <a:off x="990720" y="2057400"/>
            <a:ext cx="7162560" cy="3965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77880" y="4572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ричины пораж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7200" y="1600200"/>
            <a:ext cx="8077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Плохое вооружение восставш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У Спартака не было четкого плана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Восставших обманули пир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одведём ит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04920" y="34290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на стр. 23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6852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раграф 51, вопрос 1 письм., за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905120" y="5410080"/>
            <a:ext cx="6781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076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- познакомимся с восстанием Спартак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Выясним причины его возникновения, ход и итог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выясним какое значение имело это восс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15238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ервая победа над римскими войс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Армия Спарт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оходы восставш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Рабы в ловуш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оследняя би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77880" y="45720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15238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умайте , почему рабы потерпели пора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Могли ли они одержать побед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апишем да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74-71 г. до н.э.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сстание Спарт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чины восст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те, каким было положение рабов в Риме и попытайтесь предположить, почему начало это восст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46280" y="1600200"/>
            <a:ext cx="345888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чины восст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копление большой массой раб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естокое обращение с рабам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ртак (ок. 120 г. до н. э. — 71 г. до н. э.), вождь крупнейшего восстания рабов в Древнем Риме. Происходит из племени медов во Фракии. Был на службе у царя Митридата. Попал в плен к римлянам и был продан в гладиаторы. Благодаря высокой доблести добился личной свободы. Будучи непримиримым врагом Рима и искренним борцом за человеческую свободу, в 74 г. до н. э. возглавил восстание ра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25720_5_1254503106.jpg"/>
          <p:cNvPicPr/>
          <p:nvPr/>
        </p:nvPicPr>
        <p:blipFill>
          <a:blip r:embed="rId2"/>
          <a:stretch/>
        </p:blipFill>
        <p:spPr>
          <a:xfrm>
            <a:off x="4572000" y="533520"/>
            <a:ext cx="3873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4572000" y="5105520"/>
            <a:ext cx="3886200" cy="609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р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3"/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4265640" y="3800520"/>
            <a:ext cx="501480" cy="527040"/>
          </a:xfrm>
          <a:custGeom>
            <a:avLst/>
            <a:gdLst>
              <a:gd name="textAreaLeft" fmla="*/ 114480 w 501480"/>
              <a:gd name="textAreaRight" fmla="*/ 387000 w 501480"/>
              <a:gd name="textAreaTop" fmla="*/ 120240 h 527040"/>
              <a:gd name="textAreaBottom" fmla="*/ 406800 h 52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995640" y="3243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Кап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50320" y="37450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 Cyr"/>
              </a:rPr>
              <a:t>г.Везу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876920" y="457200"/>
            <a:ext cx="3809880" cy="2819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74 г. до н.э.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иат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е города Капу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сь восстание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водитель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рт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19:02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