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964-3238-4E5C-B7CC-41A3BA73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EEE-C09C-46BE-83B5-3359B6B8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F84-9D80-47C2-ACFD-14524235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139-8723-45C7-8C9A-A48E49A3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F13-60D5-44D5-8363-FF7A0EC0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833-18BE-4B5F-B167-626030EF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511-86C3-4C89-98B7-01DE39C3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90F-2E61-44E3-8979-9FA7A173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104-A841-4B5E-86F8-46522139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A0F-1371-4961-8DAD-CDFF432C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2F1-214F-44B4-9846-89C5EF63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E62-E2E9-433A-882D-C15B6218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4DDE-7B4E-44AA-807D-A0D820B9B5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0" i="1" lang="ru-RU" sz="4800" spc="-1" strike="noStrike">
                <a:solidFill>
                  <a:srgbClr val="ffffff"/>
                </a:solidFill>
                <a:latin typeface="Constantia"/>
              </a:rPr>
              <a:t> апрел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2065320"/>
            <a:ext cx="678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ff"/>
                </a:solidFill>
                <a:latin typeface="Constantia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i="1" lang="ru-RU" sz="7200" spc="-1" strike="noStrike">
                <a:solidFill>
                  <a:srgbClr val="ffffff"/>
                </a:solidFill>
                <a:latin typeface="Constantia"/>
              </a:rPr>
              <a:t>«Восстание Спартак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6480" y="9360"/>
            <a:ext cx="9137520" cy="6843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звержение Везувия 79 г. до н.э. ( реконструкц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Файл:Pompeii the last day 1.jpg"/>
          <p:cNvPicPr/>
          <p:nvPr/>
        </p:nvPicPr>
        <p:blipFill>
          <a:blip r:embed="rId2"/>
          <a:stretch/>
        </p:blipFill>
        <p:spPr>
          <a:xfrm>
            <a:off x="685800" y="1447920"/>
            <a:ext cx="76960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419720" y="380520"/>
            <a:ext cx="4114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Лучше пойти на крайний риск ради свободы, чем рисковать своей жизнью на арене ради потехи зр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парт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" descr="spartak.gif"/>
          <p:cNvPicPr/>
          <p:nvPr/>
        </p:nvPicPr>
        <p:blipFill>
          <a:blip r:embed="rId2"/>
          <a:stretch/>
        </p:blipFill>
        <p:spPr>
          <a:xfrm>
            <a:off x="533520" y="60948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Рисунок7"/>
          <p:cNvPicPr/>
          <p:nvPr/>
        </p:nvPicPr>
        <p:blipFill>
          <a:blip r:embed="rId2"/>
          <a:stretch/>
        </p:blipFill>
        <p:spPr>
          <a:xfrm>
            <a:off x="762120" y="13716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3"/>
          <p:cNvSpPr/>
          <p:nvPr/>
        </p:nvSpPr>
        <p:spPr>
          <a:xfrm>
            <a:off x="457200" y="304920"/>
            <a:ext cx="8229600" cy="990360"/>
          </a:xfrm>
          <a:prstGeom prst="rect">
            <a:avLst/>
          </a:prstGeom>
          <a:solidFill>
            <a:srgbClr val="32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гство с горы Везу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677880" y="45720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Походы восставших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62120" y="2065320"/>
            <a:ext cx="678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Constantia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Constantia"/>
              </a:rPr>
              <a:t>стр. 236- 23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арк Лици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Кр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Марк Лициний Красс"/>
          <p:cNvPicPr/>
          <p:nvPr/>
        </p:nvPicPr>
        <p:blipFill>
          <a:blip r:embed="rId2"/>
          <a:stretch/>
        </p:blipFill>
        <p:spPr>
          <a:xfrm>
            <a:off x="762120" y="1600200"/>
            <a:ext cx="290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ледняя би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Луций Лициний Лукулл"/>
          <p:cNvPicPr/>
          <p:nvPr/>
        </p:nvPicPr>
        <p:blipFill>
          <a:blip r:embed="rId2"/>
          <a:stretch/>
        </p:blipFill>
        <p:spPr>
          <a:xfrm>
            <a:off x="1143000" y="1647720"/>
            <a:ext cx="2719440" cy="4067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609480" y="5638680"/>
            <a:ext cx="358164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ций Лициний Луку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Файл:Pompey1.jpg"/>
          <p:cNvPicPr/>
          <p:nvPr/>
        </p:nvPicPr>
        <p:blipFill>
          <a:blip r:embed="rId3"/>
          <a:stretch/>
        </p:blipFill>
        <p:spPr>
          <a:xfrm>
            <a:off x="5029200" y="1523880"/>
            <a:ext cx="3314880" cy="4324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2"/>
          <p:cNvSpPr/>
          <p:nvPr/>
        </p:nvSpPr>
        <p:spPr>
          <a:xfrm>
            <a:off x="4800600" y="5867280"/>
            <a:ext cx="358128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ней Помп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677880" y="45720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Расправа с восставшим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8"/>
          <p:cNvPicPr/>
          <p:nvPr/>
        </p:nvPicPr>
        <p:blipFill>
          <a:blip r:embed="rId2"/>
          <a:stretch/>
        </p:blipFill>
        <p:spPr>
          <a:xfrm>
            <a:off x="990720" y="2057400"/>
            <a:ext cx="7162560" cy="3965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677880" y="45720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Причины пораже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57200" y="1600200"/>
            <a:ext cx="8077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Плохое вооружение восставш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У Спартака не было четкого плана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Восставших обманули пир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Подведём ито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04920" y="34290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просы на стр. 23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3520" y="246852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араграф 51, вопрос 1 письм., запи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905120" y="5410080"/>
            <a:ext cx="678168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подготовле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Constantia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520" y="1447920"/>
            <a:ext cx="8076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- познакомимся с восстанием Спартак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Выясним причины его возникновения, ход и итоги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выясним какое значение имело это восс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Constantia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152388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Первая победа над римскими войс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Армия Спарт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Походы восставш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Рабы в ловуш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Последняя би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77880" y="457200"/>
            <a:ext cx="77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Задание на уро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33520" y="1523880"/>
            <a:ext cx="7924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умайте , почему рабы потерпели поражение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- Могли ли они одержать победу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Запишем дат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74-71 г. до н.э. –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сстание Спарта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762120" y="2065320"/>
            <a:ext cx="678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ичины восста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помните, каким было положение рабов в Риме и попытайтесь предположить, почему начало это восст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Рисунок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46280" y="1600200"/>
            <a:ext cx="3458880" cy="4525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762120" y="2065320"/>
            <a:ext cx="678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ичины восста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1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копление большой массой рабов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жестокое обращение с рабами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ртак (ок. 120 г. до н. э. — 71 г. до н. э.), вождь крупнейшего восстания рабов в Древнем Риме. Происходит из племени медов во Фракии. Был на службе у царя Митридата. Попал в плен к римлянам и был продан в гладиаторы. Благодаря высокой доблести добился личной свободы. Будучи непримиримым врагом Рима и искренним борцом за человеческую свободу, в 74 г. до н. э. возглавил восстание ра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25720_5_1254503106.jpg"/>
          <p:cNvPicPr/>
          <p:nvPr/>
        </p:nvPicPr>
        <p:blipFill>
          <a:blip r:embed="rId2"/>
          <a:stretch/>
        </p:blipFill>
        <p:spPr>
          <a:xfrm>
            <a:off x="4572000" y="533520"/>
            <a:ext cx="3873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4572000" y="5105520"/>
            <a:ext cx="3886200" cy="609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р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762120" y="2065320"/>
            <a:ext cx="678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исунок3"/>
          <p:cNvPicPr/>
          <p:nvPr/>
        </p:nvPicPr>
        <p:blipFill>
          <a:blip r:embed="rId2"/>
          <a:stretch/>
        </p:blipFill>
        <p:spPr>
          <a:xfrm>
            <a:off x="380880" y="380880"/>
            <a:ext cx="8305920" cy="60962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6"/>
          <p:cNvSpPr/>
          <p:nvPr/>
        </p:nvSpPr>
        <p:spPr>
          <a:xfrm>
            <a:off x="4265640" y="3800520"/>
            <a:ext cx="501480" cy="527040"/>
          </a:xfrm>
          <a:custGeom>
            <a:avLst/>
            <a:gdLst>
              <a:gd name="textAreaLeft" fmla="*/ 114480 w 501480"/>
              <a:gd name="textAreaRight" fmla="*/ 387000 w 501480"/>
              <a:gd name="textAreaTop" fmla="*/ 120240 h 527040"/>
              <a:gd name="textAreaBottom" fmla="*/ 406800 h 52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995640" y="3243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Капу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650320" y="37450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 Cyr"/>
              </a:rPr>
              <a:t>г.Везу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876920" y="457200"/>
            <a:ext cx="3809880" cy="28195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74 г. до н.э.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иатор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е города Капу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сь восстание п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водитель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рта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19:02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