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B36A-8640-469A-A1C7-BECEF4B8A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752C-D6F0-44EA-BF14-7306EE7C5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EDFB-0469-4FBE-8517-20577E82E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1FF3-5219-48CA-A9AC-C173BFCD6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8A59-7675-4F79-81FC-023DBD6B0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B029-492B-486F-AE36-5C43500BA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188C-43D1-4731-93EA-F81F54CA1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445C-12E0-489E-B5F6-C2E650668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DE89-57CA-40B0-A9E4-AD93D7B8C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C5ED-F707-45E4-8BCC-7FF1CAA6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698F-D6DA-4B59-970A-783D7E8C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C3CF-B128-4B23-9F8A-73136E2E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8060C-5D5D-498D-967D-FF6144696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upload.wikimedia.org/wikipedia/commons/c/c1/Sergey_Zaryanko_21.jpg" TargetMode="External"/><Relationship Id="rId3" Type="http://schemas.openxmlformats.org/officeDocument/2006/relationships/image" Target="../media/image10.jpeg"/><Relationship Id="rId4" Type="http://schemas.openxmlformats.org/officeDocument/2006/relationships/hyperlink" Target="file://upload.wikimedia.org/wikipedia/commons/1/16/Milutin_Dmitry_Alexeevich.jpg" TargetMode="External"/><Relationship Id="rId5" Type="http://schemas.openxmlformats.org/officeDocument/2006/relationships/image" Target="../media/image11.jpeg"/><Relationship Id="rId6" Type="http://schemas.openxmlformats.org/officeDocument/2006/relationships/hyperlink" Target="file://upload.wikimedia.org/wikipedia/commons/9/99/Yuri_Fyodorovich_Samarin_Kramskoi.jpg" TargetMode="External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160" y="2971800"/>
            <a:ext cx="84582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« Накануне отмены крепостного права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43200" y="152280"/>
            <a:ext cx="3657600" cy="91440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стория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952880"/>
            <a:ext cx="6477120" cy="167652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териал разработан учителем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У Будинская О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тоненковой А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ичины отмены крепостного прав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92480" y="1483200"/>
            <a:ext cx="8235360" cy="48823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3492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изкая производительность крепостного тру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Отсутствие личной свободы препятствовало развитию капитал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Крепостное право - угроза общественного споко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озможность потерять статус великой держа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Безнравственность крепостного пр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8250"/>
                            </p:stCondLst>
                            <p:childTnLst>
                              <p:par>
                                <p:cTn id="2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3400"/>
                            </p:stCondLst>
                            <p:childTnLst>
                              <p:par>
                                <p:cTn id="3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4" dur="2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апишем определ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Таким образом, крепостное пра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епятствовало дальнейшему экономическому развитию стран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грозило отодвинуть Россию в разряд второстепенных держа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являлось мощным дестабилизирующим фактором внутри российского общест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торонники Александра II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838080" y="1600200"/>
            <a:ext cx="2343240" cy="3276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52280" y="4952880"/>
            <a:ext cx="3810240" cy="53352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нстантин Никола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5791320" y="1600200"/>
            <a:ext cx="2438280" cy="30481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800600" y="4876920"/>
            <a:ext cx="3809880" cy="99036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еликая княги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лена Павл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Файл:Sergey Zaryanko 2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1676520"/>
            <a:ext cx="2487600" cy="31240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52280" y="4876920"/>
            <a:ext cx="3124440" cy="83808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Яков Иван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остовц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Файл:Milutin Dmitry Alexeevich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324480" y="1790640"/>
            <a:ext cx="2210040" cy="3276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715000" y="5029200"/>
            <a:ext cx="3429000" cy="76212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митрий Алексееви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илют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Файл:Yuri Fyodorovich Samarin Kramskoi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276720" y="2971800"/>
            <a:ext cx="2224080" cy="2852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857680" y="5943600"/>
            <a:ext cx="3429000" cy="76212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Юрий Фёдор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амари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торонники Александра II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33160" y="228600"/>
            <a:ext cx="8305560" cy="1752480"/>
          </a:xfrm>
          <a:prstGeom prst="rect">
            <a:avLst/>
          </a:prstGeom>
          <a:solidFill>
            <a:srgbClr val="ffff99"/>
          </a:solidFill>
          <a:ln w="4428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чь Александра II, произнесенная им 30 марта 1856 г. перед московскими губернскими и уездными предводителями дворянст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152280" y="1981080"/>
            <a:ext cx="8991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ухи носятся, что я хочу дать свободу крестьянам; это не справедливо, и вы можете сказать это всем направо и налево; но чувства, враждебные между крестьянами и их помещиками, к несчастью, существует, и от этого было уже несколько случаев неповиновения к помещикам. Я убежден, что рано или поздно мы должны к этому прийти. Я думаю, что вы одного мнения со мною, следовательно, гораздо лучше, чтобы это произошло свыше, нежели снизу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07720" y="5770440"/>
            <a:ext cx="3774600" cy="103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 землей, которой владеют в настоящее время, за выку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кавелин"/>
          <p:cNvPicPr/>
          <p:nvPr/>
        </p:nvPicPr>
        <p:blipFill>
          <a:blip r:embed="rId2"/>
          <a:stretch/>
        </p:blipFill>
        <p:spPr>
          <a:xfrm>
            <a:off x="685800" y="1143000"/>
            <a:ext cx="1722600" cy="25401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92" name="WordArt 5"/>
          <p:cNvSpPr txBox="1"/>
          <p:nvPr/>
        </p:nvSpPr>
        <p:spPr>
          <a:xfrm>
            <a:off x="609480" y="3733920"/>
            <a:ext cx="205740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К.Д. Кавелин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  <p:pic>
        <p:nvPicPr>
          <p:cNvPr id="93" name="Picture 8" descr=""/>
          <p:cNvPicPr/>
          <p:nvPr/>
        </p:nvPicPr>
        <p:blipFill>
          <a:blip r:embed="rId3"/>
          <a:stretch/>
        </p:blipFill>
        <p:spPr>
          <a:xfrm>
            <a:off x="2819520" y="1143000"/>
            <a:ext cx="2046240" cy="2544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94" name="WordArt 9"/>
          <p:cNvSpPr txBox="1"/>
          <p:nvPr/>
        </p:nvSpPr>
        <p:spPr>
          <a:xfrm>
            <a:off x="3048120" y="3733920"/>
            <a:ext cx="2057400" cy="38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А.И. Герцен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  <p:grpSp>
        <p:nvGrpSpPr>
          <p:cNvPr id="95" name="Group 12"/>
          <p:cNvGrpSpPr/>
          <p:nvPr/>
        </p:nvGrpSpPr>
        <p:grpSpPr>
          <a:xfrm>
            <a:off x="5181480" y="1143000"/>
            <a:ext cx="3563640" cy="2548080"/>
            <a:chOff x="5181480" y="1143000"/>
            <a:chExt cx="3563640" cy="2548080"/>
          </a:xfrm>
        </p:grpSpPr>
        <p:pic>
          <p:nvPicPr>
            <p:cNvPr id="96" name="Picture 13" descr="Чернышевский5"/>
            <p:cNvPicPr/>
            <p:nvPr/>
          </p:nvPicPr>
          <p:blipFill>
            <a:blip r:embed="rId4"/>
            <a:stretch/>
          </p:blipFill>
          <p:spPr>
            <a:xfrm>
              <a:off x="5181480" y="1143000"/>
              <a:ext cx="1957320" cy="2548080"/>
            </a:xfrm>
            <a:prstGeom prst="rect">
              <a:avLst/>
            </a:prstGeom>
            <a:ln w="57240">
              <a:solidFill>
                <a:srgbClr val="ffffff"/>
              </a:solidFill>
              <a:miter/>
            </a:ln>
          </p:spPr>
        </p:pic>
        <p:pic>
          <p:nvPicPr>
            <p:cNvPr id="97" name="Picture 14" descr="Добролюбов"/>
            <p:cNvPicPr/>
            <p:nvPr/>
          </p:nvPicPr>
          <p:blipFill>
            <a:blip r:embed="rId5"/>
            <a:stretch/>
          </p:blipFill>
          <p:spPr>
            <a:xfrm>
              <a:off x="6836040" y="1143000"/>
              <a:ext cx="1909080" cy="2548080"/>
            </a:xfrm>
            <a:prstGeom prst="rect">
              <a:avLst/>
            </a:prstGeom>
            <a:ln w="57240">
              <a:solidFill>
                <a:srgbClr val="ffffff"/>
              </a:solidFill>
              <a:miter/>
            </a:ln>
          </p:spPr>
        </p:pic>
      </p:grpSp>
      <p:sp>
        <p:nvSpPr>
          <p:cNvPr id="98" name="WordArt 15"/>
          <p:cNvSpPr txBox="1"/>
          <p:nvPr/>
        </p:nvSpPr>
        <p:spPr>
          <a:xfrm>
            <a:off x="5410080" y="3809880"/>
            <a:ext cx="3168720" cy="73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Н.Г. Чернышевский и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Н.А. Добролюбов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  <p:sp>
        <p:nvSpPr>
          <p:cNvPr id="99" name="AutoShape 17"/>
          <p:cNvSpPr/>
          <p:nvPr/>
        </p:nvSpPr>
        <p:spPr>
          <a:xfrm>
            <a:off x="2514600" y="4572000"/>
            <a:ext cx="380988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 землей, выкупленной государ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8"/>
          <p:cNvSpPr/>
          <p:nvPr/>
        </p:nvSpPr>
        <p:spPr>
          <a:xfrm>
            <a:off x="4724280" y="5638680"/>
            <a:ext cx="4038840" cy="121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зможно только через «народное дел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9"/>
          <p:cNvSpPr/>
          <p:nvPr/>
        </p:nvSpPr>
        <p:spPr>
          <a:xfrm>
            <a:off x="6934320" y="4648320"/>
            <a:ext cx="838080" cy="990360"/>
          </a:xfrm>
          <a:prstGeom prst="downArrow">
            <a:avLst>
              <a:gd name="adj1" fmla="val 84852"/>
              <a:gd name="adj2" fmla="val 112015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20"/>
          <p:cNvSpPr/>
          <p:nvPr/>
        </p:nvSpPr>
        <p:spPr>
          <a:xfrm>
            <a:off x="1066680" y="4648320"/>
            <a:ext cx="838440" cy="990360"/>
          </a:xfrm>
          <a:prstGeom prst="downArrow">
            <a:avLst>
              <a:gd name="adj1" fmla="val 84852"/>
              <a:gd name="adj2" fmla="val 111967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21"/>
          <p:cNvSpPr/>
          <p:nvPr/>
        </p:nvSpPr>
        <p:spPr>
          <a:xfrm>
            <a:off x="3733920" y="4114800"/>
            <a:ext cx="838080" cy="380880"/>
          </a:xfrm>
          <a:prstGeom prst="downArrow">
            <a:avLst>
              <a:gd name="adj1" fmla="val 84852"/>
              <a:gd name="adj2" fmla="val 94792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274680"/>
            <a:ext cx="8534520" cy="7920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оссийская « оттепель»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вопросы на стр. 13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дведение итога уро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омашнее зад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77840" y="3100320"/>
            <a:ext cx="6999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араграф 19, записи, вопросы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задания в рабочей тетрад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152280"/>
            <a:ext cx="8686800" cy="12193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егодня на урок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600200"/>
            <a:ext cx="8610480" cy="5029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 Познакомимся с новы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мператором Александром I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ыясним предпосылки 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ичины отме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репостного прав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 Выясним, как к этому вопрос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тносилось обществ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лан уро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1600200"/>
            <a:ext cx="8610480" cy="5029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едпосылки отмен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репостного прав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 Император Александр I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 Причины отмены крепостног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ав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. Российская «оттепель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адание на урок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1600200"/>
            <a:ext cx="8610480" cy="5029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чему, несмотря на то, что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тмены крепостного пра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тоял достаточно остр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есь XIX век решит его тольк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Александр II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4"/>
          <p:cNvGrpSpPr/>
          <p:nvPr/>
        </p:nvGrpSpPr>
        <p:grpSpPr>
          <a:xfrm>
            <a:off x="609480" y="1736640"/>
            <a:ext cx="3657240" cy="4511520"/>
            <a:chOff x="609480" y="1736640"/>
            <a:chExt cx="3657240" cy="4511520"/>
          </a:xfrm>
        </p:grpSpPr>
        <p:pic>
          <p:nvPicPr>
            <p:cNvPr id="54" name="Picture 5" descr="Николай 1-4"/>
            <p:cNvPicPr/>
            <p:nvPr/>
          </p:nvPicPr>
          <p:blipFill>
            <a:blip r:embed="rId2"/>
            <a:stretch/>
          </p:blipFill>
          <p:spPr>
            <a:xfrm>
              <a:off x="704520" y="1736640"/>
              <a:ext cx="3468960" cy="451152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55" name="AutoShape 6"/>
            <p:cNvSpPr/>
            <p:nvPr/>
          </p:nvSpPr>
          <p:spPr>
            <a:xfrm>
              <a:off x="609480" y="5577120"/>
              <a:ext cx="3657240" cy="670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WordArt 7"/>
            <p:cNvSpPr txBox="1"/>
            <p:nvPr/>
          </p:nvSpPr>
          <p:spPr>
            <a:xfrm>
              <a:off x="1173960" y="5672880"/>
              <a:ext cx="2470320" cy="34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Николай I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7" name="Group 8"/>
          <p:cNvGrpSpPr/>
          <p:nvPr/>
        </p:nvGrpSpPr>
        <p:grpSpPr>
          <a:xfrm>
            <a:off x="4800600" y="1736640"/>
            <a:ext cx="3885840" cy="4511160"/>
            <a:chOff x="4800600" y="1736640"/>
            <a:chExt cx="3885840" cy="4511160"/>
          </a:xfrm>
        </p:grpSpPr>
        <p:pic>
          <p:nvPicPr>
            <p:cNvPr id="58" name="Picture 9" descr=""/>
            <p:cNvPicPr/>
            <p:nvPr/>
          </p:nvPicPr>
          <p:blipFill>
            <a:blip r:embed="rId3"/>
            <a:stretch/>
          </p:blipFill>
          <p:spPr>
            <a:xfrm>
              <a:off x="5018400" y="1736640"/>
              <a:ext cx="3335400" cy="441648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59" name="AutoShape 10"/>
            <p:cNvSpPr/>
            <p:nvPr/>
          </p:nvSpPr>
          <p:spPr>
            <a:xfrm>
              <a:off x="4800600" y="5577120"/>
              <a:ext cx="3885840" cy="670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WordArt 11"/>
            <p:cNvSpPr txBox="1"/>
            <p:nvPr/>
          </p:nvSpPr>
          <p:spPr>
            <a:xfrm>
              <a:off x="4890240" y="5672880"/>
              <a:ext cx="3702240" cy="446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Александра Федоровн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одители Александра II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н был непохож на отца; рос мягким, чувствительным, имел красивую внешность, весёлый нрав и был очень общительным. Александр получил прекрасное образование: в наставники ему отец избрал знаменитого поэта — Жуковского, — и тот отнесся к своему назначению с величайшей ответственность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Александра II и Марии Николаевичей, 1821г."/>
          <p:cNvPicPr/>
          <p:nvPr/>
        </p:nvPicPr>
        <p:blipFill>
          <a:blip r:embed="rId2"/>
          <a:stretch/>
        </p:blipFill>
        <p:spPr>
          <a:xfrm>
            <a:off x="990720" y="1523880"/>
            <a:ext cx="3082680" cy="4419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28600" y="5943600"/>
            <a:ext cx="3962520" cy="5335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лександр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адание на урок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Садовников"/>
          <p:cNvPicPr/>
          <p:nvPr/>
        </p:nvPicPr>
        <p:blipFill>
          <a:blip r:embed="rId2"/>
          <a:stretch/>
        </p:blipFill>
        <p:spPr>
          <a:xfrm>
            <a:off x="0" y="1447920"/>
            <a:ext cx="8915400" cy="52959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2193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оржества в Москве по случаю коронаци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репостное право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-      форма зависимости крестьян, прикрепление их к земле и подчинение административной и судейской власти феодал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апишем определ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) начало положил Павел Первый своим указом в 1797 году о трёхдневной барщи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) в 1803 году указ Александра « о вольных хлебопашцах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) в 1842 г. – указ Николая Первого об « обязанных крестьянах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пытки ранее решить крестьянский вопрос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3-18T11:01:4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