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3FF-7C78-4863-A033-1A5D76AF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753-D3CE-4846-834F-7FE6DB6D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AB6-946F-4323-AF9A-201EB336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FCA-F022-493D-BD04-D629325B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1425-02E1-4330-9C89-5D8C11B0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D66-96A3-404E-B4F1-71CA265D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494-DF41-46DA-A847-DA988E316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9AF-4A3E-4667-B460-F8A21614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C80F-06A2-4496-8F68-CA90A8F1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CA2-3D46-4B96-9BDD-C13BE66D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291-4562-4F9A-84BA-378225C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C1A-C689-4E4A-A264-AD538AE9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6BBA-E53F-4221-859C-ED544760C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0" y="151920"/>
            <a:ext cx="4572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« Устройство Римск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республик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81280" y="5257800"/>
            <a:ext cx="5562720" cy="1600200"/>
          </a:xfrm>
          <a:prstGeom prst="rect">
            <a:avLst/>
          </a:prstGeom>
          <a:solidFill>
            <a:srgbClr val="ffff99"/>
          </a:solidFill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атерила разработан учителем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удинской ООШ Тве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ой А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енная подготовка была очень тяжелой. Каждый день все воины легиона тренировались в плавании, беге, прыжках, метании дротика и фехтовании. Трижды в месяц войско совершало марш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роски на 30 км. Воины шли в быстром темп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 скоростью 6,5 и даже 8 км в ча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егионеры учились строить и разбирать военный лаг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олову тяжеловооружённого легионера защищали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шлем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грудь и спину –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анцир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живот – широкий кожаный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оя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с металлическими бляхами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20600" y="1447920"/>
            <a:ext cx="4343400" cy="5410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rot="1756800">
            <a:off x="3111120" y="225432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756800">
            <a:off x="3200040" y="301932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756800">
            <a:off x="3200040" y="3809880"/>
            <a:ext cx="1905120" cy="409680"/>
          </a:xfrm>
          <a:prstGeom prst="leftArrow">
            <a:avLst>
              <a:gd name="adj1" fmla="val 50000"/>
              <a:gd name="adj2" fmla="val 1162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54864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Тактика боя римского войс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880" y="1752480"/>
            <a:ext cx="876312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8a2e4e"/>
                </a:solidFill>
                <a:latin typeface="Arial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1143000" y="1857240"/>
            <a:ext cx="1143000" cy="11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106668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6"/>
          <p:cNvSpPr/>
          <p:nvPr/>
        </p:nvSpPr>
        <p:spPr>
          <a:xfrm>
            <a:off x="4724280" y="4572000"/>
            <a:ext cx="1219320" cy="106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8"/>
          <p:cNvSpPr/>
          <p:nvPr/>
        </p:nvSpPr>
        <p:spPr>
          <a:xfrm>
            <a:off x="1828800" y="3276720"/>
            <a:ext cx="1224000" cy="11332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9"/>
          <p:cNvSpPr/>
          <p:nvPr/>
        </p:nvSpPr>
        <p:spPr>
          <a:xfrm>
            <a:off x="3657600" y="3276720"/>
            <a:ext cx="1371600" cy="10666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5715000" y="3276720"/>
            <a:ext cx="1362240" cy="1133280"/>
          </a:xfrm>
          <a:prstGeom prst="rect">
            <a:avLst/>
          </a:prstGeom>
          <a:solidFill>
            <a:srgbClr val="cc99ff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тар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13"/>
          <p:cNvSpPr/>
          <p:nvPr/>
        </p:nvSpPr>
        <p:spPr>
          <a:xfrm>
            <a:off x="3048120" y="1857240"/>
            <a:ext cx="1095120" cy="111456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4"/>
          <p:cNvSpPr/>
          <p:nvPr/>
        </p:nvSpPr>
        <p:spPr>
          <a:xfrm>
            <a:off x="4572000" y="1828800"/>
            <a:ext cx="1066680" cy="1143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15"/>
          <p:cNvSpPr/>
          <p:nvPr/>
        </p:nvSpPr>
        <p:spPr>
          <a:xfrm>
            <a:off x="6095880" y="1828800"/>
            <a:ext cx="1067040" cy="1143000"/>
          </a:xfrm>
          <a:prstGeom prst="rect">
            <a:avLst/>
          </a:prstGeom>
          <a:solidFill>
            <a:srgbClr val="ffc00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Юно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6"/>
          <p:cNvSpPr/>
          <p:nvPr/>
        </p:nvSpPr>
        <p:spPr>
          <a:xfrm>
            <a:off x="7872480" y="3200400"/>
            <a:ext cx="1271520" cy="914400"/>
          </a:xfrm>
          <a:prstGeom prst="ellipse">
            <a:avLst/>
          </a:prstGeom>
          <a:solidFill>
            <a:srgbClr val="78839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7"/>
          <p:cNvSpPr/>
          <p:nvPr/>
        </p:nvSpPr>
        <p:spPr>
          <a:xfrm>
            <a:off x="0" y="3124080"/>
            <a:ext cx="1143000" cy="914400"/>
          </a:xfrm>
          <a:prstGeom prst="ellipse">
            <a:avLst/>
          </a:prstGeom>
          <a:solidFill>
            <a:srgbClr val="78839a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конниц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трелка вверх 23"/>
          <p:cNvSpPr/>
          <p:nvPr/>
        </p:nvSpPr>
        <p:spPr>
          <a:xfrm>
            <a:off x="838080" y="3429000"/>
            <a:ext cx="357480" cy="977760"/>
          </a:xfrm>
          <a:prstGeom prst="up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трелка вверх 24"/>
          <p:cNvSpPr/>
          <p:nvPr/>
        </p:nvSpPr>
        <p:spPr>
          <a:xfrm>
            <a:off x="3276720" y="3429000"/>
            <a:ext cx="341280" cy="9777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трелка вверх 25"/>
          <p:cNvSpPr/>
          <p:nvPr/>
        </p:nvSpPr>
        <p:spPr>
          <a:xfrm>
            <a:off x="7162920" y="3429000"/>
            <a:ext cx="357120" cy="977760"/>
          </a:xfrm>
          <a:prstGeom prst="up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трелка вверх 26"/>
          <p:cNvSpPr/>
          <p:nvPr/>
        </p:nvSpPr>
        <p:spPr>
          <a:xfrm>
            <a:off x="5181480" y="3429000"/>
            <a:ext cx="357480" cy="977760"/>
          </a:xfrm>
          <a:prstGeom prst="upArrow">
            <a:avLst>
              <a:gd name="adj1" fmla="val 50000"/>
              <a:gd name="adj2" fmla="val 49954"/>
            </a:avLst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Стрелка вверх 27"/>
          <p:cNvSpPr/>
          <p:nvPr/>
        </p:nvSpPr>
        <p:spPr>
          <a:xfrm>
            <a:off x="2362320" y="2133720"/>
            <a:ext cx="341280" cy="9777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Стрелка вверх 28"/>
          <p:cNvSpPr/>
          <p:nvPr/>
        </p:nvSpPr>
        <p:spPr>
          <a:xfrm>
            <a:off x="4214880" y="2143080"/>
            <a:ext cx="341280" cy="978120"/>
          </a:xfrm>
          <a:prstGeom prst="upArrow">
            <a:avLst>
              <a:gd name="adj1" fmla="val 50000"/>
              <a:gd name="adj2" fmla="val 50010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трелка вверх 29"/>
          <p:cNvSpPr/>
          <p:nvPr/>
        </p:nvSpPr>
        <p:spPr>
          <a:xfrm>
            <a:off x="5715000" y="2143080"/>
            <a:ext cx="357120" cy="97812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00b050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4"/>
          <p:cNvSpPr/>
          <p:nvPr/>
        </p:nvSpPr>
        <p:spPr>
          <a:xfrm>
            <a:off x="274320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4"/>
          <p:cNvSpPr/>
          <p:nvPr/>
        </p:nvSpPr>
        <p:spPr>
          <a:xfrm>
            <a:off x="6629400" y="4572000"/>
            <a:ext cx="1228680" cy="1066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пытные во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19360" y="1219320"/>
            <a:ext cx="4724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разбивался по чётко установленному единожды плану- в форме четырёхугольника.  Посланные вперёд командиры выбирали ровную местность. Флажками замечалось расположение стоянки: проводились две пересекающие главные улицы лагеря. В конце улиц были воро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1219320"/>
            <a:ext cx="44197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2280" y="2133720"/>
            <a:ext cx="4191120" cy="323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1600200"/>
            <a:ext cx="4408560" cy="451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14440" y="1447920"/>
            <a:ext cx="4800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рушение приказа, дезертирство и трусость карались немедленно. Ликторы перед строем секли розгами виновного, а затем отрубали голову. Если целая часть войска проявляла трусость, воинов выстраивали и казнили каждого десят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4113360" cy="49532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  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5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араграф 46, вопросы, творческое задание ( по желанию)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сочинени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« написать об одном дне военного похода римлян» 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р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сунок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на тему « военные отряды римлян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накомимся с устройством Римской республик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м, как осуществлялось управление римским государством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Выясним, какие нововведения в армии способствовали захвату огромных территорий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28600"/>
            <a:ext cx="838224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676520"/>
            <a:ext cx="9144000" cy="5029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Выборы консулов и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ринятие законо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.Сенат и его роль в Рим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. Римское войск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боры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ричины борьбы патрициев и плебе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) уравнивание в правах патрициев и плебе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) снять долговую кабалу ( 326 г. до н.э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) получить доступ к общегосударственным зем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ыборы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Ежегодно в предрассветный час одного летнего дня на Марсовом поле( широкая равнина за городской стеной) собирались на Собрание граждане Рима. На высоком берегу Тибра взвивался красный флаг, который свидетельствовал о том, что Риму ничего не угрожает. Когда распахивались ворота, из них в окружении 12 ликторов появлялся консул. Раздавались звуки трубы, и жрец возвещал о том, что боги приняли жертву. И народное собрание приступало к выбору консулов на следующи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проводили наборы в войс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созывали Народ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предлагали новые зак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могли отменить распоряжения друг друга, поэтому им приходилось договариваться о приняти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) во время войны один консул находился в Риме, а  другой при войске ( но если опасность была велика, то оба консула присутствовали на войне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ункции  консул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нат и его роль в Рим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1523880"/>
            <a:ext cx="8076960" cy="533412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ооружение, позволявшее одному и тому же бойцу вести как дальний, так и рукопашный б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построение войска подвижными отрядами, дававшее возможность успешно сражаться на пересечённой м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умение строить походные лагеря – креп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) суровая военная дисцип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ступая на службу в армию, новобранец давал клятву вер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жде это было обещание испол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иказы своих командиров, затем -клятва верности импера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666800"/>
            <a:ext cx="4082760" cy="465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99"/>
          </a:solidFill>
          <a:ln w="4428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имское войско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3-18T08:26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