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5F5-52E5-4A6E-B651-E4F07372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340-5DF7-4F5D-A624-7342A13D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1DC-7F62-4352-8BF2-057EE04C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263-4791-44A7-9FFF-29F45B57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0A4-B148-416F-864F-1EABD0E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E2D-3336-4053-BA53-9C6EE98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5E7-E3B5-4592-9751-92267763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877-FAF8-4653-A02E-D9208C52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4C2-2893-48BE-B03B-7A91265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538-2B5E-474E-B1E5-1006211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6E0-19B3-4839-938A-356FA13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D8B-C55E-4BC7-9166-C420E6F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7B4-33B0-4BD6-AAFA-BF110254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Устройство Римс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республи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5257800"/>
            <a:ext cx="5562720" cy="16002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рила разработан учителем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енная подготовка была очень тяжелой. Каждый день все воины легиона тренировались в плавании, беге, прыжках, метании дротика и фехтовании. Трижды в месяц войско совершало мар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оски на 30 км. Воины шли в быстром темп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 скоростью 6,5 и даже 8 км в ч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гионеры учились строить и разбирать военный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лову тяжеловооружённого легионера защищали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шле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грудь и спину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анцир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живот – широкий кожаны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я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 металлическими бляхам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0600" y="14479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756800">
            <a:off x="3111120" y="2254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56800">
            <a:off x="3200040" y="3019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56800">
            <a:off x="3200040" y="380988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ктика боя римского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752480"/>
            <a:ext cx="876312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8a2e4e"/>
                </a:solidFill>
                <a:latin typeface="Arial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143000" y="1857240"/>
            <a:ext cx="114300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06668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724280" y="4572000"/>
            <a:ext cx="1219320" cy="106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1828800" y="3276720"/>
            <a:ext cx="122400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657600" y="3276720"/>
            <a:ext cx="1371600" cy="1066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15000" y="3276720"/>
            <a:ext cx="136224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3048120" y="1857240"/>
            <a:ext cx="109512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4572000" y="1828800"/>
            <a:ext cx="106668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095880" y="1828800"/>
            <a:ext cx="106704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6"/>
          <p:cNvSpPr/>
          <p:nvPr/>
        </p:nvSpPr>
        <p:spPr>
          <a:xfrm>
            <a:off x="7872480" y="3200400"/>
            <a:ext cx="127152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7"/>
          <p:cNvSpPr/>
          <p:nvPr/>
        </p:nvSpPr>
        <p:spPr>
          <a:xfrm>
            <a:off x="0" y="3124080"/>
            <a:ext cx="114300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верх 23"/>
          <p:cNvSpPr/>
          <p:nvPr/>
        </p:nvSpPr>
        <p:spPr>
          <a:xfrm>
            <a:off x="8380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верх 24"/>
          <p:cNvSpPr/>
          <p:nvPr/>
        </p:nvSpPr>
        <p:spPr>
          <a:xfrm>
            <a:off x="3276720" y="342900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верх 25"/>
          <p:cNvSpPr/>
          <p:nvPr/>
        </p:nvSpPr>
        <p:spPr>
          <a:xfrm>
            <a:off x="7162920" y="3429000"/>
            <a:ext cx="357120" cy="97776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6"/>
          <p:cNvSpPr/>
          <p:nvPr/>
        </p:nvSpPr>
        <p:spPr>
          <a:xfrm>
            <a:off x="51814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7"/>
          <p:cNvSpPr/>
          <p:nvPr/>
        </p:nvSpPr>
        <p:spPr>
          <a:xfrm>
            <a:off x="2362320" y="213372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верх 28"/>
          <p:cNvSpPr/>
          <p:nvPr/>
        </p:nvSpPr>
        <p:spPr>
          <a:xfrm>
            <a:off x="4214880" y="2143080"/>
            <a:ext cx="341280" cy="97812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верх 29"/>
          <p:cNvSpPr/>
          <p:nvPr/>
        </p:nvSpPr>
        <p:spPr>
          <a:xfrm>
            <a:off x="5715000" y="2143080"/>
            <a:ext cx="357120" cy="9781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7432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6294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разбивался по чётко установленному единожды плану- в форме четырёхугольника.  Посланные вперёд командиры выбирали ровную местность. Флажками замечалось расположение стоянки: проводились две пересекающие главные улицы лагеря. В конце улиц были вор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191120" cy="323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408560" cy="451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ушение приказа, дезертирство и трусость карались немедленно. Ликторы перед строем секли розгами виновного, а затем отрубали голову. Если целая часть войска проявляла трусость, воинов выстраивали и казнили каждого деся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113360" cy="4953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аграф 46, вопросы, творческое задание ( по желанию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чинени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« написать об одном дне военного похода римлян»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р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суно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 тему « военные отряды римля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мся с устройством Римской республ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 осуществлялось управление римским государств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ие нововведения в армии способствовали захвату огромных территор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ыборы консулов 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нятие закон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Сенат и его роль в Рим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 Римское войск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чины борьбы патрициев и плебе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уравнивание в правах патрициев и плеб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снять долговую кабалу ( 326 г. до н.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получить доступ к общегосударственным зем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жегодно в предрассветный час одного летнего дня на Марсовом поле( широкая равнина за городской стеной) собирались на Собрание граждане Рима. На высоком берегу Тибра взвивался красный флаг, который свидетельствовал о том, что Риму ничего не угрожает. Когда распахивались ворота, из них в окружении 12 ликторов появлялся консул. Раздавались звуки трубы, и жрец возвещал о том, что боги приняли жертву. И народное собрание приступало к выбору консулов на следующи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проводили наборы в вой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созывали Народ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предлагали новые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могли отменить распоряжения друг друга, поэтому им приходилось договариваться о приняти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) во время войны один консул находился в Риме, а  другой при войске ( но если опасность была велика, то оба консула присутствовали на войн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ункции 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нат и его роль в Р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1523880"/>
            <a:ext cx="8076960" cy="53341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оружение, позволявшее одному и тому же бойцу вести как дальний, так и рукопаш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построение войска подвижными отрядами, дававшее возможность успешно сражаться на пересечённ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умение строить походные лагеря – кре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суровая воен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тупая на службу в армию, новобранец давал клятву ве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жде это было обещание испол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казы своих командиров, затем -клятва верности импера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666800"/>
            <a:ext cx="4082760" cy="46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8T08:26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