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9E43-A4CA-4410-9951-3D2850B37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C7C9-98AE-47C9-9D75-9AB840003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35F0-E894-4644-8430-59CAF0EE3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5CBB-BFAF-4D40-AEB1-0A1DD280F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8888-E718-4B91-A143-C80F2E27F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7443-BF46-47B2-8E81-4AA79E7FC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4F61-91C7-40B7-8DF4-D68E426B1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5D5A-F109-4FFF-ACFB-5AC80DA35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FA2C-E817-46D1-BD98-69C50EF0C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A87B-067D-4AC9-8807-2D446E4B9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7AC3-41D8-4BEC-AE3E-38D875126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A49B-A5CF-47C7-AED8-97C6F87F4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4352A-8DB5-4C03-A85D-3334228AD92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0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80720" y="2590560"/>
            <a:ext cx="6357960" cy="18572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« Завоевание Римом Италии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2" name="Прямоугольник 6" descr=""/>
          <p:cNvPicPr/>
          <p:nvPr/>
        </p:nvPicPr>
        <p:blipFill>
          <a:blip r:embed="rId3"/>
          <a:stretch/>
        </p:blipFill>
        <p:spPr>
          <a:xfrm>
            <a:off x="1133640" y="414360"/>
            <a:ext cx="5694120" cy="18842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676520" y="5181480"/>
            <a:ext cx="6781680" cy="1524240"/>
          </a:xfrm>
          <a:prstGeom prst="rect">
            <a:avLst/>
          </a:prstGeom>
          <a:solidFill>
            <a:srgbClr val="99cc00"/>
          </a:solidFill>
          <a:ln w="954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Материал разработан учителем истор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Будинской ООШ Тверской обла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Антоненковой А.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647960" y="1980720"/>
            <a:ext cx="4267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Римляне долго защищали эту крепость. Они были измученные и уставшие. Галлы отважились на штурм. Ночью они полезли по скалам вверх. Стражники спали, и лишь гуси услышали шорох и начали гоготать, разбудив стражник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" name="Rectangle 3" descr=""/>
          <p:cNvPicPr/>
          <p:nvPr/>
        </p:nvPicPr>
        <p:blipFill>
          <a:blip r:embed="rId2"/>
          <a:stretch/>
        </p:blipFill>
        <p:spPr>
          <a:xfrm>
            <a:off x="762120" y="1905120"/>
            <a:ext cx="3493800" cy="4655880"/>
          </a:xfrm>
          <a:prstGeom prst="rect">
            <a:avLst/>
          </a:prstGeom>
          <a:ln w="76320">
            <a:solidFill>
              <a:srgbClr val="e5ffff"/>
            </a:solidFill>
            <a:miter/>
          </a:ln>
        </p:spPr>
      </p:pic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572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Нашествие галлов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49528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Галлы были отбиты и решили уйти, взяв с Рима золото. При         взвешивании они стали плутовать, римляне возмутились но вождь галлов, бросил свой меч на чашу с гирями со словами «Горе побежденным!». Римлянам пришлось отдать больше назначенног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457200" y="380520"/>
            <a:ext cx="8305920" cy="685800"/>
          </a:xfrm>
          <a:prstGeom prst="rect">
            <a:avLst/>
          </a:prstGeom>
          <a:solidFill>
            <a:srgbClr val="ffff00"/>
          </a:solidFill>
          <a:ln w="572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Нашествие галлов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9" name="Рисунок 19" descr=""/>
          <p:cNvPicPr/>
          <p:nvPr/>
        </p:nvPicPr>
        <p:blipFill>
          <a:blip r:embed="rId2"/>
          <a:stretch/>
        </p:blipFill>
        <p:spPr>
          <a:xfrm>
            <a:off x="5181480" y="3429000"/>
            <a:ext cx="33181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solidFill>
            <a:srgbClr val="ffff00"/>
          </a:solidFill>
          <a:ln w="572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Военные победы римлян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1" name="Рисунок 4" descr=""/>
          <p:cNvPicPr/>
          <p:nvPr/>
        </p:nvPicPr>
        <p:blipFill>
          <a:blip r:embed="rId2"/>
          <a:stretch/>
        </p:blipFill>
        <p:spPr>
          <a:xfrm>
            <a:off x="380880" y="1371600"/>
            <a:ext cx="3316320" cy="52578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6095880"/>
            <a:ext cx="403848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Царь Пир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"/>
          <p:cNvSpPr/>
          <p:nvPr/>
        </p:nvSpPr>
        <p:spPr>
          <a:xfrm>
            <a:off x="4724280" y="1371600"/>
            <a:ext cx="4114800" cy="2209680"/>
          </a:xfrm>
          <a:prstGeom prst="ellipse">
            <a:avLst/>
          </a:prstGeom>
          <a:solidFill>
            <a:srgbClr val="ffff99"/>
          </a:solidFill>
          <a:ln w="540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В 280 г до н.э. Пир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высадился в Италии 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одержал побед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5029200" y="4484520"/>
            <a:ext cx="3976560" cy="2373480"/>
          </a:xfrm>
          <a:prstGeom prst="rect">
            <a:avLst/>
          </a:prstGeom>
          <a:ln w="76320">
            <a:solidFill>
              <a:srgbClr val="e5ffff"/>
            </a:solidFill>
            <a:miter/>
          </a:ln>
        </p:spPr>
      </p:pic>
      <p:sp>
        <p:nvSpPr>
          <p:cNvPr id="75" name=""/>
          <p:cNvSpPr/>
          <p:nvPr/>
        </p:nvSpPr>
        <p:spPr>
          <a:xfrm>
            <a:off x="6705720" y="3657600"/>
            <a:ext cx="761760" cy="762120"/>
          </a:xfrm>
          <a:prstGeom prst="downArrow">
            <a:avLst>
              <a:gd name="adj1" fmla="val 50000"/>
              <a:gd name="adj2" fmla="val 2501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ая соединительная линия 6"/>
          <p:cNvSpPr/>
          <p:nvPr/>
        </p:nvSpPr>
        <p:spPr>
          <a:xfrm flipH="1">
            <a:off x="5285880" y="1643040"/>
            <a:ext cx="1800" cy="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TextBox 19"/>
          <p:cNvSpPr/>
          <p:nvPr/>
        </p:nvSpPr>
        <p:spPr>
          <a:xfrm>
            <a:off x="228600" y="1460520"/>
            <a:ext cx="845820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енатор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– член сена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«Пиррова победа»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 –  победа  сопоставимая по потерям с поражением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80880"/>
            <a:ext cx="8381880" cy="914400"/>
          </a:xfrm>
          <a:prstGeom prst="rect">
            <a:avLst/>
          </a:prstGeom>
          <a:solidFill>
            <a:srgbClr val="ffff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Военные победы римлян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914400"/>
          </a:xfrm>
          <a:prstGeom prst="rect">
            <a:avLst/>
          </a:prstGeom>
          <a:solidFill>
            <a:srgbClr val="ffff00"/>
          </a:solidFill>
          <a:ln w="572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Домашнее задание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6840" y="1905120"/>
            <a:ext cx="7467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Параграф 45, записи, вопросы, творческое задание: написать рассказ от лица римского или галльского воина                       ( по желанию)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Прямоугольник 1" descr=""/>
          <p:cNvPicPr/>
          <p:nvPr/>
        </p:nvPicPr>
        <p:blipFill>
          <a:blip r:embed="rId2"/>
          <a:stretch/>
        </p:blipFill>
        <p:spPr>
          <a:xfrm>
            <a:off x="407880" y="414360"/>
            <a:ext cx="8248680" cy="188424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2"/>
          <p:cNvSpPr/>
          <p:nvPr/>
        </p:nvSpPr>
        <p:spPr>
          <a:xfrm>
            <a:off x="380880" y="1905120"/>
            <a:ext cx="8458200" cy="4572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 выясним, как проходило усиление могущества Рим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узнаем, почему Рим смог покорить и подчинить Италию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Будем учиться работать с учебником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Прямоугольник 1" descr=""/>
          <p:cNvPicPr/>
          <p:nvPr/>
        </p:nvPicPr>
        <p:blipFill>
          <a:blip r:embed="rId2"/>
          <a:stretch/>
        </p:blipFill>
        <p:spPr>
          <a:xfrm>
            <a:off x="523800" y="414360"/>
            <a:ext cx="8023320" cy="188424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2"/>
          <p:cNvSpPr/>
          <p:nvPr/>
        </p:nvSpPr>
        <p:spPr>
          <a:xfrm>
            <a:off x="343080" y="2057400"/>
            <a:ext cx="8458200" cy="4572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43040" indent="-743040" algn="ctr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Возникновение республик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743040" indent="-743040" algn="ctr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Нашествие галлов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743040" indent="-743040" algn="ctr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Военные победы римлян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743040" indent="-743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743040" indent="-743040" algn="ctr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027"/>
          <p:cNvSpPr/>
          <p:nvPr/>
        </p:nvSpPr>
        <p:spPr>
          <a:xfrm>
            <a:off x="450720" y="2066760"/>
            <a:ext cx="8388360" cy="3953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ЧТО ПОЗВОЛИЛО РИМЛЯНАМ  УСТАНОВИТЬ СВОЕ ГОСПОДСТВО НАД  ИТАЛИЕЙ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" name="Прямоугольник 2" descr=""/>
          <p:cNvPicPr/>
          <p:nvPr/>
        </p:nvPicPr>
        <p:blipFill>
          <a:blip r:embed="rId3"/>
          <a:stretch/>
        </p:blipFill>
        <p:spPr>
          <a:xfrm>
            <a:off x="523800" y="414360"/>
            <a:ext cx="8023320" cy="18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2282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Какие изменения произошли на карте 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Чем вызваны такие изменения?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" name="Рисунок 3" descr=""/>
          <p:cNvPicPr/>
          <p:nvPr/>
        </p:nvPicPr>
        <p:blipFill>
          <a:blip r:embed="rId2"/>
          <a:stretch/>
        </p:blipFill>
        <p:spPr>
          <a:xfrm>
            <a:off x="357120" y="3357720"/>
            <a:ext cx="3876840" cy="2760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52" name="Рисунок 4" descr=""/>
          <p:cNvPicPr/>
          <p:nvPr/>
        </p:nvPicPr>
        <p:blipFill>
          <a:blip r:embed="rId3"/>
          <a:stretch/>
        </p:blipFill>
        <p:spPr>
          <a:xfrm>
            <a:off x="4714920" y="3357720"/>
            <a:ext cx="3948120" cy="2761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53" name="Прямоугольник 7" descr=""/>
          <p:cNvPicPr/>
          <p:nvPr/>
        </p:nvPicPr>
        <p:blipFill>
          <a:blip r:embed="rId4"/>
          <a:stretch/>
        </p:blipFill>
        <p:spPr>
          <a:xfrm>
            <a:off x="304920" y="512640"/>
            <a:ext cx="841212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Прямоугольник 1" descr=""/>
          <p:cNvPicPr/>
          <p:nvPr/>
        </p:nvPicPr>
        <p:blipFill>
          <a:blip r:embed="rId2"/>
          <a:stretch/>
        </p:blipFill>
        <p:spPr>
          <a:xfrm>
            <a:off x="304920" y="512640"/>
            <a:ext cx="8412120" cy="1602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027"/>
          <p:cNvSpPr/>
          <p:nvPr/>
        </p:nvSpPr>
        <p:spPr>
          <a:xfrm>
            <a:off x="450720" y="2066760"/>
            <a:ext cx="8388360" cy="456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Республик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– форма правления, при котором власть сосредоточена в руках избранных правителе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В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509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году до н.э. в Риме была установлена республика. Римляне стали выбирать из числа патрициев 2 правителей на 1  год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Консулы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– правители в Древнем Рим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1"/>
          <p:cNvSpPr/>
          <p:nvPr/>
        </p:nvSpPr>
        <p:spPr>
          <a:xfrm>
            <a:off x="304920" y="1523880"/>
            <a:ext cx="8610480" cy="5105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Плебеи права участвовать в управлении н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получили, хотя военную службу несли вместе с патриция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В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494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г. до н.э. плебеи ушли из Рима, когда город остро нуждался в воинской службе. Патриции        пошли на уступки. Плебеям разрешили создавать свое Народное собрание. Из числа плебеев стали избирать 2(10) НАРОДНЫХ ТРИБУН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" name="Прямоугольник 2" descr=""/>
          <p:cNvPicPr/>
          <p:nvPr/>
        </p:nvPicPr>
        <p:blipFill>
          <a:blip r:embed="rId3"/>
          <a:stretch/>
        </p:blipFill>
        <p:spPr>
          <a:xfrm>
            <a:off x="304920" y="285840"/>
            <a:ext cx="841212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Прямоугольник 1" descr=""/>
          <p:cNvPicPr/>
          <p:nvPr/>
        </p:nvPicPr>
        <p:blipFill>
          <a:blip r:embed="rId2"/>
          <a:stretch/>
        </p:blipFill>
        <p:spPr>
          <a:xfrm>
            <a:off x="365040" y="304920"/>
            <a:ext cx="8412120" cy="160308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2"/>
          <p:cNvSpPr/>
          <p:nvPr/>
        </p:nvSpPr>
        <p:spPr>
          <a:xfrm>
            <a:off x="380880" y="1676520"/>
            <a:ext cx="8534520" cy="4952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Любой плебей мог обратиться к народному трибуну с просьбой о защите. Двери его дома всегда были открыты, ему запрещалось покидать город более чем на сутки. Народные трибуны присутствовали на заседаниях сената, но скромно стояли у входа. Если сенат принимал постановление, направленное против плебеев, то трибуны произносил слово «Запрещаю!» ( по лат. – вето). Его личность была неприкосновенн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4" descr=""/>
          <p:cNvPicPr/>
          <p:nvPr/>
        </p:nvPicPr>
        <p:blipFill>
          <a:blip r:embed="rId2"/>
          <a:stretch/>
        </p:blipFill>
        <p:spPr>
          <a:xfrm>
            <a:off x="5181480" y="1447920"/>
            <a:ext cx="3657600" cy="22906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57200" y="228600"/>
            <a:ext cx="8305920" cy="1143000"/>
          </a:xfrm>
          <a:prstGeom prst="rect">
            <a:avLst/>
          </a:prstGeom>
          <a:solidFill>
            <a:srgbClr val="ffff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Нашествие галлов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"/>
          <p:cNvSpPr/>
          <p:nvPr/>
        </p:nvSpPr>
        <p:spPr>
          <a:xfrm>
            <a:off x="0" y="3809880"/>
            <a:ext cx="9144000" cy="3048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82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В 390-м году до н.э. над Римом нависла страшна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угроза. Через Альпы в Италию хлынул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полчища галльских племён. Город был захвачен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римляне разбиты. Устояла лишь маленькая крепость 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крутом Капитолийском холме. Началась длительна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его осад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2057400"/>
            <a:ext cx="3809880" cy="68580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Галльские племе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1-12-31T21:17:08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